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CFE0-BDF0-44AC-B7A9-A2D2B380F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47AA-C275-4EAB-936D-66D33DB67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8689-5ED8-48FF-8FDF-C461EC0A7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66BB-2951-40E5-8177-71CE5E8C2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FAE9-521D-4299-905C-89726A86D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2185-A1EE-4DD9-9790-23956BB8D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5BC9-8C61-4FF5-9994-62C6623C6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C515-FF9D-4D1B-B0E9-0608E34AC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0F93-A2B9-40FF-9D77-2F993B409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78AE-5EE5-414E-983A-71A90E509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9121-AB83-4E4D-A856-57CC19EAD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29D89787-4219-43AC-ACD6-81038024D5E5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BA60678D-8A51-49F6-B0C8-3AC05366D86A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8C5A3A9E-9AE9-4276-9949-0303ABC41963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62000" y="5756400"/>
            <a:ext cx="8766000" cy="95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5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eadsheet and Worksheet Basics 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son 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nter Data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90720" y="1600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record data keyed in a cell, press ENTER or TA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cancel data entry, press ES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1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80E53EC8-BA06-4A67-B105-0E95061A972C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898560" y="3267000"/>
            <a:ext cx="799920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Worksheet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eadsheet software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program used to record, report, analyze data in 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ula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to find answers through addition, subtraction, multiplication, and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eadsheet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you to use charts to show data 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1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797093ED-64E3-473E-BF40-04DA02D64B64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xcel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use spreadsheet softw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s and answers can be 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book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readsheet file that contains one or more worksheets with rel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shee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ection in a workbook where you ent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dded or deleted from a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318ECED3-6BD8-400A-94B6-64AB06F0DCE9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23191"/>
                </a:solidFill>
                <a:latin typeface="Arial"/>
              </a:rPr>
              <a:t>Excel </a:t>
            </a: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Window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1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56722525-F50B-4371-987C-9BA4B17E25D5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990720" y="1682640"/>
            <a:ext cx="7696080" cy="43610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"/>
          <p:cNvSpPr/>
          <p:nvPr/>
        </p:nvSpPr>
        <p:spPr>
          <a:xfrm>
            <a:off x="914400" y="3989520"/>
            <a:ext cx="141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Row hea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Column hea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xcel Window Terms: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 Ba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splays current worksheet &amp; applicati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book Close Butt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ick to close the workbook (not the ap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l Close Button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X. Closes the excel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bb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ains commands and tools grouped by category on different t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1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96040FE1-66B1-4E34-9CC3-80C1BD536A41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xcel Window Term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b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click to access ribbon tools and commands related to tab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ame box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ies the active cell  by the letter of the column and number of the row it intersects.  Also identifies the range of cells being selec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mula Bar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displays contents of the active cell and is used to create or edit text or values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be expanded or contracted by clicking the double arrows at the right edge of the b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1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2410E415-F18C-4183-8ABD-5DA793176FF9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xcel Window Term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e Cel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highlighted with a thick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ores information that is entered while the cell is 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um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Are VERTICAL. Identified  by the letters at the top of the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ws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HORIZONTAL. Identified by the numbers at the left (beginning) of the 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1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045E1165-4C5C-4B0C-AB20-63E652D75DF9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Excel Window Term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sheet Tab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dentify the worksheets in the work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name: right-click, re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 Butt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lick to display the worksheet in Normal, Page Layout, Page Break P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om control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me as MS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oll bar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lso same as MS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1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E4020838-5045-475C-B42A-DFAD5E92BBD6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409760" y="4708440"/>
            <a:ext cx="6777000" cy="17636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Move Around a Workshee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mouse and scroll b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 TA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AGE UP and PAGE DOWN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5 and enter a cell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TRL-HOME and CTRL-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933480" y="6620040"/>
            <a:ext cx="77295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1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3948BE7-3C8C-4B50-8F8D-752638053161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9:35:53Z</dcterms:created>
  <dc:creator>Jean Bissell</dc:creator>
  <dc:description>Copyright 2006 South-Western/Thomson</dc:description>
  <dc:language>en-US</dc:language>
  <cp:lastModifiedBy>Lenessa Keehn</cp:lastModifiedBy>
  <dcterms:modified xsi:type="dcterms:W3CDTF">2011-03-21T03:49:12Z</dcterms:modified>
  <cp:revision>23</cp:revision>
  <dc:subject/>
  <dc:title>Slide 1</dc:title>
</cp:coreProperties>
</file>